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AD33-ED68-4983-BA42-DEB6C9476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F061-CAF8-4F81-8E7D-C6FD919F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0207-585F-4319-8C35-41FF27006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7C04-7AC5-4448-A94A-F4ECC390E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B211-C9E6-431F-81D4-FF97DCB3A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CC13-7725-44D6-BE00-D4827AE8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6ACC-AB69-4C4A-805C-693D3945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BB35-12EC-41A6-B5C1-727A0397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FD47-DDF4-4BD5-8A8C-97138596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2E9D-382E-4781-AD55-26AD4BD5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E0EF-83EA-41D9-8121-503E9C37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0E62-A34F-471C-A684-3C4FC2AC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6FAF-6DEA-43F1-A352-D2779A79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5E84-4367-4147-A165-1384BDF8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EDB9-F109-466F-B282-E3E8447B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11F8-50B6-4EAF-B8E7-80F23F019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D718B-CAD3-4AA6-8EE5-7D5320F03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BEA6-CC40-44AD-9E50-FD7AC6CF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F3F4-2EF8-4C0A-B973-4C9510B5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CB17-7282-4FA4-811A-88CC2B1F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A4D7-7D0A-4242-8CAE-74748A4F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4B6D-E6B2-4440-9274-E2B8D7FF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7AF2-9263-433D-938E-949841D5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169D-BD59-4BC1-BF9C-49979A5B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CF1A-9D40-48D2-A5F8-0D84FB3178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3E82-B66D-4C09-98A8-09A26C8F93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ameron 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 scarecr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scarecrow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was a dark and scary night, the wind howled wildly. Kids where scared about...scarecrow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95280" y="3657600"/>
            <a:ext cx="1067040" cy="19494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352680" y="3886200"/>
            <a:ext cx="2210040" cy="1231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6324480" y="3657600"/>
            <a:ext cx="1744920" cy="2082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6002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scarecrow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ds were afraid. No body went out for halloween only one person went, someone with a straw hat on and hay coming down it’s leg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3124080"/>
            <a:ext cx="411480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carecrow walked from house to house, but know body answered. He was tie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191120" y="3886200"/>
            <a:ext cx="922320" cy="9237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971800" y="3886200"/>
            <a:ext cx="922320" cy="9237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486400" y="3886200"/>
            <a:ext cx="922320" cy="9237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600200" y="3886200"/>
            <a:ext cx="922320" cy="923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6781680" y="3886200"/>
            <a:ext cx="922320" cy="923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6551640" y="4267080"/>
            <a:ext cx="341280" cy="457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2133720" y="2666880"/>
            <a:ext cx="188280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then the scarecrow never again scared people for his own good on hollowe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971800" y="2666880"/>
            <a:ext cx="3390840" cy="2781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038480" y="5257800"/>
            <a:ext cx="88920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5640" y="2133720"/>
            <a:ext cx="624852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6:11:25Z</dcterms:created>
  <dc:creator>dharan albuoy</dc:creator>
  <dc:description/>
  <dc:language>en-US</dc:language>
  <cp:lastModifiedBy>dharan albuoy</cp:lastModifiedBy>
  <dcterms:modified xsi:type="dcterms:W3CDTF">2010-11-01T16:33:40Z</dcterms:modified>
  <cp:revision>4</cp:revision>
  <dc:subject/>
  <dc:title>cameron</dc:title>
</cp:coreProperties>
</file>